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39DD-FA3A-4DCC-BFC1-D1657916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E917-C858-4F46-981F-59A7F571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3891CF-9B76-489A-BFF8-A84BFD0A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D54C43-DA8E-43DA-9DA0-FF18D78E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351F8-3502-4543-A18E-DD0CD080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EBA00-739A-4AE8-81F0-1B15EB13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75E98B-886D-452E-B06A-FAD750D9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A1B09-CD77-4548-BD20-557F011C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EB9D2-5409-4AE5-9D3B-26223F8B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31B8A-F8E6-4EE9-B86E-3AF10AC5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63845-BB81-47FB-BA07-0DF244DB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06DF5-980A-4AE8-8A6A-BABE15C17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616A-6FB3-4D41-89E2-9FCD0F204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0A4F3-25CE-47A6-8331-9D83FD35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00379-9721-4553-8AAD-8F13F8E1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BB2A6-8FB3-438A-8238-62DAB9F1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213BD-E0F2-4E2D-A4C6-61EE23EB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288C7-8E42-4D35-9077-BE8EBC58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1D132-8E0F-4DFC-B427-7CE82A3D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DF48E-8995-46B2-A48E-94289C2D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0A157-0AAF-4D92-AD3B-B247968D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39B14-67C7-4A09-BDF2-A4DEEC38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72B75-3385-4F7D-A1D2-7504C21D2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C387-AA94-4AAF-BF42-4336B0197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162C3-97D1-4241-A037-B3F107667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7AB82-93F0-49E2-BFBE-D77FFDA16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E04C1-3E3C-4814-876F-5AE9DE78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2B352-1978-441A-9578-9BA2B094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4321F-D26B-4031-B638-DBACE64B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2D3C5-ECF8-4ED9-8B1C-E37BF4BD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BC09F-1108-479E-A440-6B28A492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7B178-236A-42DC-B411-9D7E5664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68FB0-4682-41DE-9AF3-C82D3617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FE32D-94E4-4EDF-B0E7-D8002F5E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5363-7392-4564-A9EA-D7ACE4C72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61DA0-7416-4500-B36A-BF913E1F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602E2-AF92-445B-9B96-0793CEB75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19962-B0B4-4872-9875-A70D5595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E043CA-B486-41E3-92C5-353C2756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DF69B-D62A-4BEC-8895-D016FAC5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8A290B-30A0-4CFB-830B-661E2FB6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0D2DA-A931-49F2-9251-6B866F02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214CFD-7500-42B0-A860-7B8080A7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93C161-E960-436E-A111-1AFB9F25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130CC-82B6-41DC-AEC4-3587BF66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8651-02CE-49CD-B18A-2B700EE4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7C73A-A150-467A-8937-186030A4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D3386-CEE0-47CE-87E8-C674700B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8006D-0F76-427F-B26F-7B50E861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2DF548-02EE-49BF-8FA6-1E5DCBCF1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9E3DC2-34CC-45BC-8D1E-0483D390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2491-20B5-44C7-9238-38534785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49CC-2A4C-4935-AE8E-57ACF50A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C5C0-234D-48D4-AA3D-E0266202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317D-116C-48B8-8D56-A61830EC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034F-2A1A-40E3-89D6-76F35304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87E7-098E-48B3-954D-B14F3A54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F75D-8CDC-4082-BFAA-F7E58981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3D80-F7C7-4A2D-8392-5F0AB938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014C-C41A-4F96-8C05-3B2FC481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13BD-DD07-4FA4-B7C1-BD38AF5B4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8BC1-6E89-4E88-B2FE-30DBC83F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86004-FFDE-4189-94B0-4433E7251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D06C1-AA7A-4807-A630-359573F1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F9FE1-9C5C-4855-A827-A66186C5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44070-DE4A-4C16-820F-C18E3AEE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C4BA4-9763-455C-899F-1B4EBF1C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6419-B14A-4FBD-B7FC-ED536EB7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4FBE1-C4EF-4D9D-AE31-420E5B1A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8932C-3E89-4BAE-89E4-7E937E7F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AE27D-75EA-4188-9584-7066955C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E58A8-18B2-4A43-A6F2-A8EBC767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6A2DD-5266-4E48-8BAC-5022CA72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17C3D-D9E1-4A15-8FD2-55080E85B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842E6-E5C7-4C6B-8743-98965054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26304-CCF6-46CF-A5A8-DE8387AC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70D31-FE33-4722-84B5-424C246D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026DF-EAAA-4D38-86A6-5A14AE50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F46F-D397-4F9E-A4E8-CD3678D5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CC6B6-4B52-49BC-9F11-5313D692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09D69-6A20-41DA-B698-50C1BB1E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46936-41A6-4E07-90AB-49D71666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994AC-ECD0-4083-A465-4748A57F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15C4E-540E-4258-B8B3-B734EB5A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10A11-A289-4931-8394-BD407FDE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C4A88-D311-428B-BBE4-2B5186B2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AE31B-0FA3-43FB-9742-C07185DB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4A946-0D91-4235-BBD7-C9920058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5CC4C-3D01-4E6C-BD9E-C57C0041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AC9C-4D8D-4992-B083-CB71C341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CEE42-1925-486F-8AF4-ADC16868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3AB26-257C-4239-8339-2B0DF06F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724A1-1D7B-4612-8EF7-37E9FD9C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D566A-44D8-43CA-BF00-9D3F2B8D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C777C-7914-4189-88FB-2E41AF09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6CDBD-32BA-43D2-ADF1-7F5FD548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F3C16-68AD-4108-9828-95A5F4D9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44B70-2577-45F3-9AAC-DAD9AC93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5BE47-D775-4B8D-8845-D6F041CB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BF967-55BC-42AA-BB1B-14F6BD41E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5757-D30F-41EF-821C-18F5DAE6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1F60B-900C-4BB4-8B17-ABE2CC11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13290-8F82-4267-9F8C-168537CD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44F40-72A9-4CBF-9EA6-8C7523A2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E8EF0-3E9D-447E-898A-A94583FB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BA248-3187-421F-A2A3-2182231B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8D731-892F-4615-8A4B-67DDDC2F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E488B-0F17-4941-8026-9BA5AB71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BDC02-70E9-44A0-8F8F-5054C498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3B539-EE34-414E-8733-60FD3E62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83DB7-D766-4D1C-A02F-724C27A5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57C8-A658-4F8E-9679-2172B800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BEF7E-3DA7-4B6C-8798-486A3E0C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9FAB3-A7D6-4B55-8089-3F9376DE3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1245B-6163-476C-B1B7-4DB1B9D0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B1E38-3358-41F8-BF98-24BB5EAA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41699-62EF-46D8-908C-268F1371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0C7D7-283B-49A9-9AD7-807573E3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BC05F-7896-4A1A-93B3-A5718F12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D4D87-FFDE-4AA7-A50F-6554E7ED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DAB36-9731-4068-B19E-D233D91C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8BDA9-0B2F-42D6-A961-4B22198B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4359-6FF6-4A20-BD51-3DB70357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81525-1A98-427D-933F-244D11DC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5D60A-1B98-4F97-97E1-89C28FF0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A1E1B-6DD2-4255-80F2-444587D6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B3D87-B583-465A-BC97-1BF67CEA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2284A-AD9B-4AA5-8371-D8E67F6A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5EF2A-696A-4B53-B907-1ADA12A7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19A2F-578D-45CE-AB73-EE550B07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55237-D545-46C8-A0DF-C97C8957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C03AC-0BA9-4982-BD56-AF2B2895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C8ABE-DC7E-48A3-B86D-A50D2C6A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6309-021E-4ACF-A416-1E73231D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28C70-56B2-422C-974F-2F782FEF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6A610-542A-4453-B814-24911C2F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285F1-17B1-45B5-96A9-F55CA68D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1B2FA-571E-44F2-9296-7850656C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E2968-87A3-4518-9BDC-91F60A9C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E1369-200B-4540-9C0E-85C593F22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FE0EF-16C2-4D00-871F-FED873841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204B6-AFC3-4EB5-882A-06895C00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62FF3-54F5-43B2-B8BE-D1C8BB45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F88DF-3F09-494A-8990-27CA50C3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AD56-6C90-467F-A62C-4A52B227A3A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8460-6819-456A-B3D0-00DD801CEB2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E9E3-3DCA-4F66-818E-9B7EFB554FB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F049-9102-4E5C-9879-078C152A55F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ED07-B141-407E-B5A5-089042FA146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2FCD-865E-496E-92B5-C8CA8B29A4A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78AA-7A10-4A53-AF47-3333C7FE4F4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3153-E397-46DC-9510-7CDCBFBED7A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48CB-51E4-45C2-BDD4-7593B627261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EFC1-0923-4685-8683-4142947AE28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7C1A-D57F-47B9-BDEC-9D5451458F2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F660-FB5B-4AC4-A7E9-793AC898383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57 Z večera, keď všade vôko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večera, keď všade vôko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nie nám vtáčat milý hl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čítaj, koľko dobroden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ti preukázal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aleluja! Chválu vzdá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kvet hlávkou sklonen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elebuj ho, moje srdc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ďačnej piesne ozvenou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černé, keď rastú tie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mätaj na onen d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ktorom radosť neskalí už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lesť ani smrti tieň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aleluja! Chválu vzdá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kvet hlávkou sklonen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elebuj ho, moje srdc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ďačnej piesne ozvenou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černá, keď hviezda svie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mätaj na viery ci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nám večne žiariť bud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žiš, náš Pán,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aleluja! Chválu vzdá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kvet hlávkou sklonen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elebuj ho, moje srdc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ďačnej piesne ozvenou.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11T13:24:16Z</dcterms:modified>
  <cp:revision>60</cp:revision>
  <dc:subject/>
  <dc:title>Je veľký náš Pán, on slávy je Kráľ Nech do všetkých strán  spev vrúcnych znie chvál.</dc:title>
</cp:coreProperties>
</file>